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D5FC-6879-4691-AA00-E6DF5250D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77052-6123-4F19-9F5F-CFF59CEA0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9E410F-0AB6-4187-9013-A4DFBDCC7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D4F63D1-40F8-470A-8C6C-0BE79CCE9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F3C5EC-3256-4235-8C0E-4F335B638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0B25D2-442E-47DD-861E-A8A41174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B5C53F2-067F-4DD9-B39A-66B9B4AC4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8F605FC-CEAC-4A41-8BC3-C50C936B6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F4F141-F057-4093-8F7F-D7159D8FA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1820FF-39A0-40AF-A678-982FD0C9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8E2401-FB87-4DB5-857E-78C001879C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8B3E40-7535-48CF-B482-7BF2F5F48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AC1D4-CB15-410C-A173-0CB8ED30D0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3B152-9366-4773-B90E-8A821F5A75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DC3D0-9C0E-4304-BBD5-3490FCEF35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07C3307-F877-47DD-96D9-AEFDB08D7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5513DD-C088-4593-AA7D-6D66EE414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CCFD94-5F56-4E3C-AC4F-ABBCAFD3A7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8EFEFA-A489-4810-9F9D-D115592F7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E9E925-6905-4790-9310-AF260A531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4E0D3E-C381-4E83-A62A-FC7E13AB8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D603759-9EF7-40A4-A79F-655449C7E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F4FE748-8458-4957-8E00-8FAB5D7695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2A9D-9A57-4941-94DB-9727203CE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F1BF4C-5372-4690-B961-09BBBFFC1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325678-CAB5-4A31-8909-98E7D3D80C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9DD817A-E83B-45C5-BB7D-FBE13E2E1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1013D4-AAD2-4541-8D21-15D6F80BA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05D100-7B19-402E-907A-843DC4215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571FBC9-1A94-41EC-871C-2CA68BF68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1413157-BDE2-4B9E-A3EE-8296EC059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8565D89-CC3B-48BA-83C8-7D3E144E1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E8F9E3B-F3D4-4EB6-ACD4-F270508CF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61035A0-2CE6-4355-AB0B-23A49A955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38A97-2D5E-4A48-94FD-053912963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52BCFDD-1163-463D-BE66-0C9DC8B3F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4E74980-DCA0-4993-AFB5-F4F9263C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CC082D-56ED-408F-BFDF-DD9C76D2DF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572DDB5-DF45-4C6F-9D38-FD9F4E56AC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DF0DA7C-EC7C-4748-85D7-61B5CFA6B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23CAEE3-CB32-4114-BB81-B6750069B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DA5CBF2-4540-46AB-8924-E56D42795D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7A9540-3B81-4E52-A06E-94ECAED1C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BF4875-29E6-4604-9662-02DF463A8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113038-6F5C-4D2C-97A2-3DD3A16DC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C9046-BA74-47DB-AAE7-9C96D5D5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D82D3A-3A9A-4988-ACCA-6A3CA24BC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11E7A0-4482-4B72-B947-34D7409A3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80E51-67DB-467F-B087-624338E53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880F7A-571A-4BB6-BCB1-B53DEA013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DDC6EAA-01FB-4149-A810-661422856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9C4C56-1E87-4232-A804-1B4687D811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67E61C-7037-463B-AF85-51DB14B8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6B01FA9-A738-420B-9D63-839060A32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7C8F99-C96B-4F0E-87B6-B6906BB8A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FA7A548-27A1-4AA1-9B1B-121BA014D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D0CFB-4B61-44C0-98E3-B7FD4681C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BFA57EA-D027-4FEB-9A4F-C9604DB7D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258143-7178-4C11-97C4-3D04DE539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7A374A9-03F5-4F4D-B58C-FDBF38AC6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49A715-8BE3-4920-9F00-48BEE9BE8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AAFE86F-73AA-42DB-99C8-F0D2DEBE6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68B2BCB-FFAF-4323-816C-D6BD2CCAF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8B849E-3E79-49C3-86ED-C6B6465CA5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E6630C-060B-450A-82E1-DD2104D08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8D6CFF-A525-4F0E-AAA3-A8194E5E2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7E6E514-BE27-48F2-9AF8-8FA8E2398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4DD2F-A90A-4071-9494-6E44322E5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5A9D8A-898A-4E93-934A-BDA069CF2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98FFC2-B60C-425F-B4EA-CB4E836A9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5248D7-27A7-454E-A2A2-AE56E9B1E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7B4C3-5D28-4E5A-9CAD-F56C652E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CFAB24F-0FAD-4AD5-862E-2DED6C78F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4B7BEC-5DF2-4E5F-B696-188706F98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B16E30-4CFD-4D97-B74C-48DA71641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141AA1-5AF1-4D13-BD26-363A5F61B5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39599-A90F-4A05-95B3-BB4D63B28F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FDDC6E-C9A1-4D54-8995-189945BEC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4036BD-D6B3-4393-811E-B52CC850F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4A2EC-3B52-43A8-B61A-CFBE6CD64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87252AA-85B4-4A0C-8B09-E2F0061A55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0773EE9-869D-45FE-B983-2165013266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F1F4A4A-95CC-42DF-8169-C15E3CE6B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889FE-EE70-4037-9708-EC23E9D54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6852550-F911-4DCC-A124-C7F9C04D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63A7596-4754-4361-914B-25FCC84E4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8BA67B8-44FF-4D49-BAC5-157289E7B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833ECD-8189-4683-87C1-DC9508037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D88B3E8-7434-43E7-8AE2-4400DD973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18FA4-2884-4699-8E17-511588BB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391AC4-4AFA-45A3-8F86-C1642232BE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DAE8A4-8D1E-47F4-9AD8-5B24951C3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36D0710-18B3-4F0B-A17A-3C29E5705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DC6B7F-56C2-4839-8490-C6E14B1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FAB3DB-715E-4C0F-94DD-8510E0ABE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17A97-DBD1-49DA-922D-38D5AA604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838DBA3-A4D1-4E1D-ADB4-67C7939E6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61A9DD-03C6-4FDA-A4C1-A763AF83A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103A4E-3EF1-45C8-B071-91F91A984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E3E27AA-2E86-419E-8809-B2E2ADDD9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22929-B04B-46E7-B3E8-11EB08AC5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E56928F-1F7A-4E56-B931-4E121601CA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E3C23DE-36A7-45B1-AF55-950A3B747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FC2EFB7-97EF-43B5-A118-E6A4C91A9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E074293-C93E-49C8-A974-1B0059F6B6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6142F92-4696-4229-96B4-F1844CF0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EDB738-0E7E-45EC-84CE-A98CF0FBF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D296E3A-ACCA-4D9E-9B5C-8D69EA391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CDC755-78DE-44FC-B2EC-7D2544160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8E2113D-9A38-444F-A199-78B2B0682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DDFBD44-53E9-420D-B744-E68E72B7C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EF95-C12F-4FEC-BCB7-625C27500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3C39F-9691-4044-A679-6BB195D5C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A3A24B8-08F3-4053-9AC7-A58F165EF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8048678-C553-468F-B54A-456631A36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CC8E825-48AA-4A36-811A-928710FBC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F99D1E9-009B-43FD-A522-9D256CBC57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CC1D449-2349-4BD9-A9E9-0A0EBFF90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AC5BD4D-CCC4-4A74-9C3C-864B1058C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2EEE626-23EA-4546-8485-4B81FE154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698C94A-887E-43A4-9804-235829C077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9820EF-5914-4D0F-BC68-4D5DF15BA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48DF5C3-B83F-414C-8DC7-AD0EA1548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B30E99-6575-483D-92EF-F771E9893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5D4D393-7C87-4FBC-9B13-EF68E95E6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8D0A5CF-E7E0-41AB-BF3C-5457712CE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FB54F48-0FA9-4EBD-B517-F8AE9480F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1890BA-AC32-483C-87B4-7034D0EE8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F47E66-AD1D-40D0-84F8-077F8995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428F59-14A3-4B56-BD27-4FBC3B138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9ACCF02-2A94-48BB-AB56-E345EC6A51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657AB5-2482-464C-9646-1D5F56491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0FE7812-FC5C-4F37-BE3F-3ABD8EEC8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94DE5B-5835-4300-9005-5EC5D76FF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0CF9F9-F469-40C2-86EF-616CBF0C9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3817377-ADCC-407B-A235-3CAD0AB0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99007DB-5D85-4922-9708-7876DDAA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85B68A-457B-49A3-9F30-BB31F8B5F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28BFD9C-A8FF-4551-B1C1-0DFF1530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643285A-894D-44DA-A50E-5A523BAB6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4856F5-D6E3-4B05-A5AF-721C269C8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78851B-90C6-43C3-97B8-C13178F5B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20F130-B35A-4758-95C7-2B05C1C8B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40E3DD-C11F-456C-AC3D-2B7802956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6B9CE0A-7542-4C9E-B485-8C162629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2352-AD18-4F83-BA56-F2F8BD6B8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CD7AF0-6239-4990-B205-AA6F119B4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E2EEB24-72DA-4AE4-9988-3B80850CA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B42C7D2-F1F1-462B-8C87-FBD305E57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18CF9B8-F9B9-4833-999C-B303483D1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1780B1D-BBDC-41F1-A804-D98E09303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BC9819B-17F4-4A8E-9D9A-6DACF6C73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98CA87D-3855-4968-8F86-14E14CDA47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878B59A-B31D-4FB0-BBE0-42246383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9F54C6D-CEF1-4ECF-8598-A3FEF2FD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91FA08-DC8C-4A88-A127-6E624FD3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95213-1B5B-4164-AEC2-26DD1F268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0B364CF-19C7-49DE-833C-A2FFF881A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57B3D5F-2339-4EA5-AA10-89942066C5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F99E287-DBB0-42AC-BD96-85682BB61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4412165-DD97-4DDF-BFB5-5DB9BBF6A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28CCA8-2915-4138-B985-1E1F302C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11A42E-B21F-4CE6-9E78-F8A197601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719331-01B2-43EB-B77B-1171F494F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070FDA-519E-4515-A4AF-45021C215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103CFC0-7AF0-415C-AAAE-49BFBF258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7938B60-FCCB-4491-BA14-397BADA9E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F617D1-9DC1-4908-979F-D1A288DB4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EC54F00-7628-45A9-9D3D-135114BD0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9BF9C21-4636-42D3-9A9A-089CB6081F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2CB0A32-41C6-48B9-B22B-A1B0C2EEC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F6997C-8B6F-43AC-91DC-7FB6E067D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FE7BEA-7931-4EF9-8135-947237F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BFEE59-1836-494A-B785-A07926A4F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09BB1E-9E86-4747-A749-67CDE0D0E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A228-D531-4CF5-B718-B1EF41076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0160B7-015C-40C8-BA8F-E14E6A9F3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EAB7DF-8D85-4A7D-BC8C-7191EF5E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53FF83-403E-4BA8-95E6-5CFA4CE2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B9A28-7551-436B-9FD0-48C34059A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431221-EE08-4C34-A236-C2ACF2325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340B0A-BE0C-44E2-B4A7-1F1E927CB9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7C6DA-225B-46AA-85FC-DE80A6EF8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57934-1308-4562-9DFF-C93E2529A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CFBC7-EF33-419A-AEC3-7D9F09228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79DD893-2EBB-4EB2-B286-BBD8CDB7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4FB6-C1C2-4D17-9E28-62F582DCA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C2FFC8-75E2-4A9C-ACFF-0D468BF9D6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BE0BC0-0E6A-4094-9E44-DE102AE3A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F0D5C6-0A1B-43A5-9539-3B3C6CCB0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40D945-741E-4A7E-9BA8-24A89DE2A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2121D7-BFA1-4D89-86D5-E2809F869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88AB14-F124-4479-9B02-9652B9C36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71D14C-A1D8-4FB2-B3B0-BCE562538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75249B-F255-4541-9022-FB912520A5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ACEAF5-9178-47C4-BB5D-E5C86079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22E1E9-D4E8-40E4-BD7D-5509C79B00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132E-1E00-418F-BBDA-DB98784339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5124E1-3687-4C15-8175-0CE2DBC6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6CFFC-BDB1-4538-8A3A-39A1C957E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F80240-F320-4A6F-9D8D-961518A32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193A74-F90D-41A3-8DF2-FAC62C28E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F304B3-17D1-4FD6-BC52-DB0700F58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E4E322-F290-4F8D-870D-8FDDBDBC3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4AC205-6912-400D-8E63-CF789A32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1118F-461A-44BE-9BAD-0162A3AA2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1006AB-90C7-427B-AEE0-7D2226C5F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BAC3B0-BC55-4D21-B207-EF4FA7E17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B84C8-83F6-4298-93CA-2D053A68E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9F3080-E2F7-45A9-A93D-9BBEBD993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553335-D579-43FF-AD81-C5DFA93E7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A53AA0-5289-4AA9-90A5-24CB0F02E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EF4C8C3-FFC1-4613-BEF7-0A5EFB38E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33DE93-5BCE-47DF-A6FB-0758529E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3F638C-F780-4F78-9F19-131CD3B5A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2338C-772C-4652-984B-1D8651B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9D9657B-3695-4613-BBD5-D4F91B1F7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5D5FF6-91A0-4BE4-8C7C-934DCDEBB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B65E25-0476-421F-B2A9-4B521968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D135-ED65-4BD9-9A39-0E60FAAB3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7D6448-5937-45CA-9DAA-90E92FA6B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4B0E59-C6FE-43FC-8D3E-32C966F9B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B6DFEB-8AC6-4E7B-889D-A2DEFE2F9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DEBB0C-FF51-4490-9091-7123685972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8A0D09-B06E-41F9-83A1-F506E9D7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10550-3EF4-4697-9B78-70778BF72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9C2630-8ED6-4C9B-AD49-A2F521BD4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EF5F5F-0156-43DF-9D43-20EAEDE06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7786B-B5B1-4C49-891E-B2B70F59B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7926E57-3373-432E-B980-FCDDEE895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4E5D-878C-4FCF-9C70-8D9D25241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B69C54-140B-4F72-A8BE-B1444DF53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8FFD0B-DDE1-4ACE-A863-24549AC28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897F04-0DD3-4748-9650-1BB68841C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AE6F17-A622-413E-9004-CE54A61EC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C457A4-6113-4716-88EC-5ACFA1F4EA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7BE83C-E8FA-407C-8DCD-6D9281783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34B812-F89B-44E1-8505-250241B52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59EBEB-44B8-4AE6-8587-F4963F99F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09C6F-A4E8-42EE-8CC4-200676E2D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963A1E-75A7-49C0-8265-7247EB432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1CCAB-7DAC-45DA-AC3A-652BE383C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6CF8FD-D034-46B3-A264-A44A6B916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A2CA57-DDB1-4166-883A-71E2B62AC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B80ED8-0CE1-4292-A9E9-994D2E578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9953C-0798-4F37-8BF3-3233169AE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E0797E-804A-4DBF-9023-CC6D247B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E86E40-42F1-448A-AF64-CD24A1C9D3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E1BEF99-B0FB-4630-BB2D-9F37AD4BE0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EC51FD-A324-4AAD-9E0C-469669AB8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1448A6-6CC9-4996-A2EE-EC5CF5A6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AD8320C-CD2A-4147-A50F-89EAC7A1E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68CB7-F534-4CFB-8071-5B9EC9E335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9CCA5-190A-44CB-9789-A82144E7B5F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94D03-B06E-48F8-B813-3FABF89B9A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D4767-F4A0-4453-A9C6-3EB5E2C5EE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E44F2-2769-441B-B7A3-74B63E59DC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95D78-64EB-4146-B4D4-6A33C5239E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E318B-4BDE-4266-9DA3-41DD0FE7EF6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4FF309-9CFC-4DDB-B2B7-21C7C9A8D7F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F00E7-A6A7-4E0F-BFB3-76C3176A32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E258A-FE44-4792-9BAC-17C50FAEEB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60D0D-97AE-4760-AB0B-08573DB6112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BBE285-0482-4842-A7F1-F6795CE1E07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20DCC-E48A-4127-869F-6326B82695E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5FD9D-5026-4822-B7CF-61B71182B7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561BA-42CD-42EF-A26F-1E44DC7C22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B586A-C60B-4B0F-BF4C-EC7D38D6A90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D30AE-A417-4D54-98C0-2AE5732D36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FAAC0-CD6C-491D-9F6A-54A07F43957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2367E-A8F7-4A46-86D6-FDAF1F5A379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66F877-5E0C-4869-B624-DB8E35BB66A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FA17A-DEB8-4141-8CF4-4C1F3C26AF4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D7029-D4AF-459A-AD82-E98A023562C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9C20E-D1D8-4B65-BC21-F49EA6DC0F1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75410-4BBC-4BEC-96ED-D90251897D1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9CE17-00A5-493E-B568-331657F5A0B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759EB-7A69-4F4F-A64C-2CD2180A307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26DB2-FC33-46E2-B97F-9007F062DE5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65AB6E-4375-403F-B75D-5F4AC439A6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BD492-2766-4F5A-9921-BDD175F3D80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0B366-33BA-42A4-A082-C594C3954A2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BDB26-9A1D-43EB-8E39-13023175F95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521B3A-22AF-4ED1-A7B3-A457B310417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665DD0-DF3A-4739-92C1-10537D503D8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4A460-56F2-490C-83B4-E1B18672491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0EB2-CB7D-45B1-BE92-644C133991D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DDAF0-B5E0-4707-8653-83A783ABCE0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CC36E-74F0-4285-873C-5522B41BFED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4F844-9B14-46C0-988C-57CC3A7A002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38921-D9AA-46BF-87AF-B885076DA1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4B9F0-73E9-48D0-A988-61220F1BD61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4" descr=""/>
          <p:cNvPicPr/>
          <p:nvPr/>
        </p:nvPicPr>
        <p:blipFill>
          <a:blip r:embed="rId1"/>
          <a:stretch/>
        </p:blipFill>
        <p:spPr>
          <a:xfrm>
            <a:off x="92160" y="3000240"/>
            <a:ext cx="8908920" cy="83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5" name="Picture 2" descr=""/>
          <p:cNvPicPr/>
          <p:nvPr/>
        </p:nvPicPr>
        <p:blipFill>
          <a:blip r:embed="rId1"/>
          <a:stretch/>
        </p:blipFill>
        <p:spPr>
          <a:xfrm>
            <a:off x="480960" y="1290600"/>
            <a:ext cx="8182080" cy="4276800"/>
          </a:xfrm>
          <a:prstGeom prst="rect">
            <a:avLst/>
          </a:prstGeom>
          <a:ln w="0">
            <a:noFill/>
          </a:ln>
        </p:spPr>
      </p:pic>
      <p:sp>
        <p:nvSpPr>
          <p:cNvPr id="1056" name="矩形 2"/>
          <p:cNvSpPr/>
          <p:nvPr/>
        </p:nvSpPr>
        <p:spPr>
          <a:xfrm>
            <a:off x="7286760" y="1285920"/>
            <a:ext cx="1108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3"/>
          <p:cNvSpPr/>
          <p:nvPr/>
        </p:nvSpPr>
        <p:spPr>
          <a:xfrm>
            <a:off x="4643280" y="1857240"/>
            <a:ext cx="1500480" cy="279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4"/>
          <p:cNvSpPr/>
          <p:nvPr/>
        </p:nvSpPr>
        <p:spPr>
          <a:xfrm>
            <a:off x="2357280" y="2357280"/>
            <a:ext cx="9352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5"/>
          <p:cNvSpPr/>
          <p:nvPr/>
        </p:nvSpPr>
        <p:spPr>
          <a:xfrm>
            <a:off x="1143000" y="2857680"/>
            <a:ext cx="9288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0" name="矩形 6"/>
          <p:cNvSpPr/>
          <p:nvPr/>
        </p:nvSpPr>
        <p:spPr>
          <a:xfrm>
            <a:off x="4549680" y="2889360"/>
            <a:ext cx="102240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矩形 7"/>
          <p:cNvSpPr/>
          <p:nvPr/>
        </p:nvSpPr>
        <p:spPr>
          <a:xfrm>
            <a:off x="4478400" y="3392640"/>
            <a:ext cx="10713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矩形 8"/>
          <p:cNvSpPr/>
          <p:nvPr/>
        </p:nvSpPr>
        <p:spPr>
          <a:xfrm>
            <a:off x="1008000" y="3936960"/>
            <a:ext cx="992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3" name="矩形 9"/>
          <p:cNvSpPr/>
          <p:nvPr/>
        </p:nvSpPr>
        <p:spPr>
          <a:xfrm>
            <a:off x="5543640" y="3929040"/>
            <a:ext cx="13572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4" name="矩形 10"/>
          <p:cNvSpPr/>
          <p:nvPr/>
        </p:nvSpPr>
        <p:spPr>
          <a:xfrm>
            <a:off x="4071960" y="4429080"/>
            <a:ext cx="1100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矩形 11"/>
          <p:cNvSpPr/>
          <p:nvPr/>
        </p:nvSpPr>
        <p:spPr>
          <a:xfrm>
            <a:off x="2797200" y="4971960"/>
            <a:ext cx="11858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100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8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3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8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3" dur="1000"/>
                                        <p:tgtEl>
                                          <p:spTgt spid="10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2" descr=""/>
          <p:cNvPicPr/>
          <p:nvPr/>
        </p:nvPicPr>
        <p:blipFill>
          <a:blip r:embed="rId1"/>
          <a:stretch/>
        </p:blipFill>
        <p:spPr>
          <a:xfrm>
            <a:off x="1104840" y="3105000"/>
            <a:ext cx="6934320" cy="6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2" descr=""/>
          <p:cNvPicPr/>
          <p:nvPr/>
        </p:nvPicPr>
        <p:blipFill>
          <a:blip r:embed="rId1"/>
          <a:stretch/>
        </p:blipFill>
        <p:spPr>
          <a:xfrm>
            <a:off x="428760" y="785880"/>
            <a:ext cx="8210520" cy="5772240"/>
          </a:xfrm>
          <a:prstGeom prst="rect">
            <a:avLst/>
          </a:prstGeom>
          <a:ln w="0">
            <a:noFill/>
          </a:ln>
        </p:spPr>
      </p:pic>
      <p:sp>
        <p:nvSpPr>
          <p:cNvPr id="1025" name="矩形 3"/>
          <p:cNvSpPr/>
          <p:nvPr/>
        </p:nvSpPr>
        <p:spPr>
          <a:xfrm>
            <a:off x="857160" y="257184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矩形 4"/>
          <p:cNvSpPr/>
          <p:nvPr/>
        </p:nvSpPr>
        <p:spPr>
          <a:xfrm>
            <a:off x="857160" y="4572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7" name="Picture 2" descr=""/>
          <p:cNvPicPr/>
          <p:nvPr/>
        </p:nvPicPr>
        <p:blipFill>
          <a:blip r:embed="rId1"/>
          <a:stretch/>
        </p:blipFill>
        <p:spPr>
          <a:xfrm>
            <a:off x="419040" y="947880"/>
            <a:ext cx="8305920" cy="4962240"/>
          </a:xfrm>
          <a:prstGeom prst="rect">
            <a:avLst/>
          </a:prstGeom>
          <a:ln w="0">
            <a:noFill/>
          </a:ln>
        </p:spPr>
      </p:pic>
      <p:sp>
        <p:nvSpPr>
          <p:cNvPr id="1028" name="矩形 2"/>
          <p:cNvSpPr/>
          <p:nvPr/>
        </p:nvSpPr>
        <p:spPr>
          <a:xfrm>
            <a:off x="857160" y="100008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3"/>
          <p:cNvSpPr/>
          <p:nvPr/>
        </p:nvSpPr>
        <p:spPr>
          <a:xfrm>
            <a:off x="928800" y="342900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0" name="Picture 2" descr=""/>
          <p:cNvPicPr/>
          <p:nvPr/>
        </p:nvPicPr>
        <p:blipFill>
          <a:blip r:embed="rId1"/>
          <a:stretch/>
        </p:blipFill>
        <p:spPr>
          <a:xfrm>
            <a:off x="476280" y="2104920"/>
            <a:ext cx="8191440" cy="2648160"/>
          </a:xfrm>
          <a:prstGeom prst="rect">
            <a:avLst/>
          </a:prstGeom>
          <a:ln w="0">
            <a:noFill/>
          </a:ln>
        </p:spPr>
      </p:pic>
      <p:sp>
        <p:nvSpPr>
          <p:cNvPr id="1031" name="矩形 2"/>
          <p:cNvSpPr/>
          <p:nvPr/>
        </p:nvSpPr>
        <p:spPr>
          <a:xfrm>
            <a:off x="928800" y="2214720"/>
            <a:ext cx="50004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1000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2" name="Picture 2" descr=""/>
          <p:cNvPicPr/>
          <p:nvPr/>
        </p:nvPicPr>
        <p:blipFill>
          <a:blip r:embed="rId1"/>
          <a:stretch/>
        </p:blipFill>
        <p:spPr>
          <a:xfrm>
            <a:off x="504720" y="1138320"/>
            <a:ext cx="8134560" cy="4581360"/>
          </a:xfrm>
          <a:prstGeom prst="rect">
            <a:avLst/>
          </a:prstGeom>
          <a:ln w="0">
            <a:noFill/>
          </a:ln>
        </p:spPr>
      </p:pic>
      <p:sp>
        <p:nvSpPr>
          <p:cNvPr id="1033" name="矩形 2"/>
          <p:cNvSpPr/>
          <p:nvPr/>
        </p:nvSpPr>
        <p:spPr>
          <a:xfrm>
            <a:off x="2643120" y="1643040"/>
            <a:ext cx="1357560" cy="357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3214800" y="2214720"/>
            <a:ext cx="1071360" cy="2854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3379680" y="2708280"/>
            <a:ext cx="857520" cy="328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7132680" y="3794040"/>
            <a:ext cx="13572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7" name="矩形 7"/>
          <p:cNvSpPr/>
          <p:nvPr/>
        </p:nvSpPr>
        <p:spPr>
          <a:xfrm>
            <a:off x="3357720" y="4786200"/>
            <a:ext cx="2214360" cy="335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7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7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2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7" dur="10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3" descr=""/>
          <p:cNvPicPr/>
          <p:nvPr/>
        </p:nvPicPr>
        <p:blipFill>
          <a:blip r:embed="rId1"/>
          <a:stretch/>
        </p:blipFill>
        <p:spPr>
          <a:xfrm>
            <a:off x="485640" y="1352520"/>
            <a:ext cx="8172720" cy="4152960"/>
          </a:xfrm>
          <a:prstGeom prst="rect">
            <a:avLst/>
          </a:prstGeom>
          <a:ln w="0">
            <a:noFill/>
          </a:ln>
        </p:spPr>
      </p:pic>
      <p:sp>
        <p:nvSpPr>
          <p:cNvPr id="1039" name="矩形 2"/>
          <p:cNvSpPr/>
          <p:nvPr/>
        </p:nvSpPr>
        <p:spPr>
          <a:xfrm>
            <a:off x="2500200" y="2500200"/>
            <a:ext cx="1071720" cy="311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0" name="矩形 3"/>
          <p:cNvSpPr/>
          <p:nvPr/>
        </p:nvSpPr>
        <p:spPr>
          <a:xfrm>
            <a:off x="4786200" y="2500200"/>
            <a:ext cx="10717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4"/>
          <p:cNvSpPr/>
          <p:nvPr/>
        </p:nvSpPr>
        <p:spPr>
          <a:xfrm>
            <a:off x="2851200" y="4579920"/>
            <a:ext cx="109224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矩形 5"/>
          <p:cNvSpPr/>
          <p:nvPr/>
        </p:nvSpPr>
        <p:spPr>
          <a:xfrm>
            <a:off x="4714920" y="4572000"/>
            <a:ext cx="10000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3" name="矩形 6"/>
          <p:cNvSpPr/>
          <p:nvPr/>
        </p:nvSpPr>
        <p:spPr>
          <a:xfrm>
            <a:off x="1214280" y="507204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2571840" y="5072040"/>
            <a:ext cx="1643040" cy="3002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1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1000"/>
                                        <p:tgtEl>
                                          <p:spTgt spid="10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4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5" name="Picture 2" descr=""/>
          <p:cNvPicPr/>
          <p:nvPr/>
        </p:nvPicPr>
        <p:blipFill>
          <a:blip r:embed="rId1"/>
          <a:stretch/>
        </p:blipFill>
        <p:spPr>
          <a:xfrm>
            <a:off x="495360" y="1895400"/>
            <a:ext cx="8153280" cy="3067200"/>
          </a:xfrm>
          <a:prstGeom prst="rect">
            <a:avLst/>
          </a:prstGeom>
          <a:ln w="0">
            <a:noFill/>
          </a:ln>
        </p:spPr>
      </p:pic>
      <p:sp>
        <p:nvSpPr>
          <p:cNvPr id="1046" name="矩形 2"/>
          <p:cNvSpPr/>
          <p:nvPr/>
        </p:nvSpPr>
        <p:spPr>
          <a:xfrm>
            <a:off x="2928960" y="2508120"/>
            <a:ext cx="785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7" name="矩形 3"/>
          <p:cNvSpPr/>
          <p:nvPr/>
        </p:nvSpPr>
        <p:spPr>
          <a:xfrm>
            <a:off x="4143240" y="250020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4"/>
          <p:cNvSpPr/>
          <p:nvPr/>
        </p:nvSpPr>
        <p:spPr>
          <a:xfrm>
            <a:off x="5429160" y="2514600"/>
            <a:ext cx="71460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5"/>
          <p:cNvSpPr/>
          <p:nvPr/>
        </p:nvSpPr>
        <p:spPr>
          <a:xfrm>
            <a:off x="1128600" y="3503520"/>
            <a:ext cx="8575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6"/>
          <p:cNvSpPr/>
          <p:nvPr/>
        </p:nvSpPr>
        <p:spPr>
          <a:xfrm>
            <a:off x="3279600" y="3503520"/>
            <a:ext cx="111312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7"/>
          <p:cNvSpPr/>
          <p:nvPr/>
        </p:nvSpPr>
        <p:spPr>
          <a:xfrm>
            <a:off x="2714760" y="4071960"/>
            <a:ext cx="1046160" cy="306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8"/>
          <p:cNvSpPr/>
          <p:nvPr/>
        </p:nvSpPr>
        <p:spPr>
          <a:xfrm>
            <a:off x="5268960" y="4071960"/>
            <a:ext cx="123516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9"/>
          <p:cNvSpPr/>
          <p:nvPr/>
        </p:nvSpPr>
        <p:spPr>
          <a:xfrm>
            <a:off x="7203960" y="4029120"/>
            <a:ext cx="1082880" cy="2858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1000"/>
                                        <p:tgtEl>
                                          <p:spTgt spid="10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1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6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1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2" descr=""/>
          <p:cNvPicPr/>
          <p:nvPr/>
        </p:nvPicPr>
        <p:blipFill>
          <a:blip r:embed="rId1"/>
          <a:stretch/>
        </p:blipFill>
        <p:spPr>
          <a:xfrm>
            <a:off x="509760" y="1238400"/>
            <a:ext cx="8124480" cy="43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8:25:22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